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796088" cy="10075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796800" cy="10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0"/>
          </p:nvPr>
        </p:nvSpPr>
        <p:spPr>
          <a:xfrm>
            <a:off x="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1"/>
          </p:nvPr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3890B98-1F8F-4CF3-BB85-77805892F1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06EF52D-ADAB-48AB-988E-88F25F35533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C234874-D04A-4457-A843-7D276D4469FD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EAD0100-E6BD-4B69-86EB-153FECA32E57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98C3DC6-686C-4B31-85A1-DB096F80E0C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F61E877-79FC-42A8-84B7-7200C376E78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7789286-57CB-4CB6-81FA-3FC0334865B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A209B53-A63F-482A-A963-E4CB871E661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8095083-4686-43BF-9045-AF4EE783DE8D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0755BE3-C769-4E23-AC9D-4869A03E778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38BD88E-8E46-46FD-9DCC-5EE96F9D24AF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6CB9C02-2B40-4949-9501-E0F8F4776D4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4510864-978D-4665-9693-077E69A86B6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A48A6C6-7E97-44B3-BF5B-D8BB307E067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2BE63B0-EDE0-47D5-B971-40C994F1D40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87E6D80-C57A-4C84-A8C4-6C281FC8AA0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92C244F-4936-46C1-8111-A78846438DA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CDE4AB8-237E-4D53-A358-8EB8A31C4EE1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8D1B5A5-2189-4425-82BC-0E70D0BD0E9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76F885D-4B44-423C-94A8-39A3025651E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AE2695C-7E9D-4A9C-A984-FF6C9E235F01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D59BA71-7756-4170-8C47-1F2B8E7F3037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DE60C35-EEE5-45D6-B4EC-703449EC92E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EFEA77C-43F6-46ED-A10B-7E172D46B8CD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B9D893E-AFBE-47E8-8C44-F0D97987D9C0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6F2DB4E-5727-48D3-921C-804D5A6ABEA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48D8555-2C5C-4BE5-AFDC-9C347D2495D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CK 6.265 str. 1 d. Jeigu asmuo, kuris nėra darbuotojas, vykdydamas kito asmens, kuris nėra darbdavys, duotą nurodymą, padaro žalos, tai abu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e asmenys atsako solidari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Prie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nimas -&gt; CK 6.718 str. 3 d. Paslaugų teikėjas privalo teikti paslaugas pagal sutarties sąlygas ir kliento nurodymus. Jei kliento nurodymai prie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tarauja sutarties įstatymams, nusistovėjusioms profesinės veiklos taisyklėms, standartams, profesinės veiklos etikai ar sutarties sąlygoms, paslaugų teikėjas turi teisę atsisakyti vykdyti tokius nurodymus ir sutartį nutrauk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ektroninės komercijos direktyva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nustato atsakomybės i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mtis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mere conduit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tiesiog elgesio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kai paslaugų teikėjas nežino, kokia informacija siunčiama),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cach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laikino saugojimo),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host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informacijos saugojimas) atvejais.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Host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atveju būtinos sąlygos yra nežinojimas, kad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 informacija ką nors pažeidžia, bei informacijos pa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alinimas nedelsiant gavus tokią informacij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. komercijos direktyvos 16 st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. Komercijos direktyvos 17 st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61A392E-0061-4BAE-8246-37E1913BDF1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80C33EC-8E52-4752-9B5B-41AC62EC177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5244298-5279-4ABE-B8B8-FD85714B7D97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909EFF0-AA80-4E46-A6D1-9AD86372CB17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5D95F96-B292-4B00-AE95-300603C302F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A79F24D-8940-4CC2-A709-BAE0317C5F8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1C5722D-ECC2-4142-8969-39A0DF5F39E3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911B1C9-2BB1-4423-BBCD-F96C4C5C3F6C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F6D5960-1629-4D18-B338-4018CDCA88AB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4DE90FB-9014-480E-BA35-1F3B097144C3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2E57BFE-6B9B-4FBD-B27E-8D596E810E5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2FA-4128-4D45-8DC5-5F03099E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751-9176-4261-A155-FF60F34A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621-AEE0-4BEC-BF27-10C056A9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4E4-0B81-443E-A323-D7DEBFA7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878C-62B9-4E06-BA26-CCBD0E44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3914-3C5F-4487-AE07-54F13985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43E4-1641-4C51-BD6F-148E8F40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6CCA-B2E3-4B23-B8D8-BC43B3DE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3611-C505-49C1-A8B7-3DF1F0BB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94BB-E970-4F3B-B4CC-AFD21075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7604-017D-4AD9-B4A6-21DA81E6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326-BCCC-481A-A71E-56B46ED9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E6D5-D2A3-4FE4-803E-40D228AB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29E4-5D86-4D70-91AC-50DA7271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BB88-BBE8-4AB4-98B9-FAB46CA3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02A9-2458-47D1-AE1A-CBBBBB4B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F956-6588-4895-A91A-3F6B5B82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22F122-0A48-4F86-B7EA-2C04227E6A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F21D99-CF48-4EB9-A50D-447BACA2C1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18E1AD-4694-49A8-AC3C-4CC1958E91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AD8CC3-61F3-4FE0-9E7B-0FA2E09ECD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3A4847-8E27-4B8B-91F6-4BE6B50996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EE7-9CF1-4010-84B3-863EE6E0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3D549-8835-410F-B73E-E14DA7C96C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F9B74E-6E22-4511-8670-2A974155A8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367304-0A55-4D2D-8BA6-D8A3D3A500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F6B8EB-A5E0-41D1-972D-7381DB3013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8EB528-6B9E-4FC5-B4BE-2DBBD3B1E6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FF19E0-893C-4AE8-88E8-0ED8184FB8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ADBC7-E1F5-44FB-842D-F1CF50854E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A3EFA-BE31-4A68-A997-C8B21EC080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573D3-4A3F-4ED3-9BCD-5EAEBFEA34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86440-3B41-4122-B23E-0CA661E6C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5D3-7C35-495D-B3F3-DAA60C42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21E88-A2D1-4231-A1EC-E3A9D66DC4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3032D-35B0-48A4-ABF1-4C95CD1A09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217BA-020C-43A0-BACC-2A41B8C2A6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C0060-8F2F-4C72-AF9E-98ABBF312E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FDD16-D7C7-411F-A13B-A60203B295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CD443-7A97-4947-8DA6-DABAD03F70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D156F-1259-430F-9C82-B05E7F09B5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29985-F906-4D9D-B118-6EF6296D22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3D35C-8FF9-4604-A9D0-E36ACE33F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85E-80CE-48BA-9B73-00EBCA9C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4F7-AD64-416A-9D3B-026747AD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C1D-F71C-4F71-9509-BFC3144C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097-61C8-4510-8219-237A6BA4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4D7-C6B5-42A3-B8DD-3C33EE3D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-01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© Tomas Lamanauskas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3581280"/>
            <a:ext cx="587520" cy="32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7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8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4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45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8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Elektroninės komercijos teisinis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lektroninės komercijos teisinio reguliavimo pagrind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Funkcinis ekvivalentišku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alios erdvės institutų perkėlimo į elektroninę erdvę (pritaikymo šiai erdvei užtikrinimas) pagal šių institutų funkcij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dokumento funk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udarymas galimybių, kad būtų įskaitomas; liktų nepakeistas bėgant laikui; galima būtų padaryti dokumento kopiją taip, kad kiekviena iš šalių turėtų tuos pačius duomenis; galima būtų patvirtinti duomenis parašu; pateikti formą, kuri būtų priimtina valstybės institucijoms, įskaitant teism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parašo funk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dentifikuoti asmenį; užtikrinti, kad pasirašymo veiksme asmuo dalyvavo asmeniškai; susieti asmenį su konkrečiu dokumentu (patvirtinimas, kad autorius patvirtino dokumento turinį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utarčių laisv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idžia sutarčių šalims (ypač verslas - verslui komercijoje) laisvai nusistatyti tarpusavio santykių principus ir formas ir įpareigoja valstybę pripažinti tokias sutartis (taip pat ir apsaugant iš jų kylančias teis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lektroninio parašo įstatymo 8 str. 3 d.: elektroninis parašas visais atvejais turi šio straipsnio 1 dalyje įtvirtintą teisinę galią (t.y., tokią pat teisinę galią kaip ir parašas rašytiniuose dokumentuose ir yra leistinas kaip įrodinėjimo priemonė teisme), jeigu parašų naudotojai tarpusavyje dėl to susitar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skat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iek tai įmanoma valstybė turi ne pati kištis, o skatinti, kad normas bendru sutarimu kurtų elektroninio verslo dalyviai ir juos atstovaujančios organizacijos (panašu į darbo santykių reguliavimą, kai darbuotojai su darbdaviu pasirašo kolektyvinę sutartį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smens duomenų teisinė apsauga ir vartotojų apsaug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Įpareigoja valstybę ir kitus subjektus saugoti fizinių asmenų privatumą bei užtikrinti sąžiningą elgesį su jais prekybiniuose santykiuose (taip pat ir elektroniniame vers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io principo nuoseklus taikymas ugdo vartotojų pasitikėjimą elektronine komercija ir skatina vartojim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ugumo užtikr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mpa aktualesnis, kai elektroninė komercija atsiveria (naudojama ne uždaroje grupėje) ir naudoja globalius tink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NISA – Europos tinklų ir informacijos apsaugos agentūra (Heraklionas, Kreta, Graikij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arptautinis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is reguliavimas turi atitikti tarptautinius teisės aktus, ir užtikrinti, kad teisiniai santykiai, atsiradę pagal vienos valstybės įstatymus, bus lygiaverčiai pripažįstami kitose valstybės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Minimalus kišimasis (proporcingumas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is reguliavimas turi būti minimalus būtinas pasiekti konkretų tikslą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utorių teisių ir gretutinių teisių apsaug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jant informacines technologijas šias teises tampa vis lengviau pažeisti, todėl turi būti skiriamas specialus dėmesys autorių teisėms ir gretutinėms teisė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iškumas, prognozuojamumas, teisinis tikrumas ir teisėti lūkesčia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Įstatymų leidyba ir teisės aktai turi užtikrinti, kad teisinis reguliavimas būtų aiškus ir nuspėjama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is principas apima ir 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lex retro non agit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(lot. Įstatymas negalioja atgal) taisykl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Šaltin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ncip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rptautinės sutart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uropos Sąjungos, Europos Taryb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valomi viršnacionaliniai teisės akt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 Reglamentai, direktyvos, sprendima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statymai (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irmiausia – Civilinis kodeks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oįstatyminiai teisės aktai (</a:t>
            </a:r>
            <a:r>
              <a:rPr b="0" lang="lt-LT" sz="1600" spc="-1" strike="noStrike">
                <a:solidFill>
                  <a:srgbClr val="003366"/>
                </a:solidFill>
                <a:latin typeface="Arial"/>
              </a:rPr>
              <a:t>Vyriausybės nutarimai,  ministrų įsakymai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eismų prakt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pročiai, doktrina ir tarptautinių organizacijų dokument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urin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ieta teisės sistem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Reguliavimo dalykas ir meto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rincip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altini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vireguliaci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Šaltin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mų prakt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. Beliackas v. UAB “Sabina” (elektroninių įrodymų pripažini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Ž. Budros IĮ “Sėkmės sistemos” v. UAB “Lietuvos telekomo verslo sprendimai” ir AB “Lietuvos telekomas” (neteisėtas masinis komercinis pašt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Ž. Budros IĮ “Sėkmės sistemos” v. UAB “D.B.S. Pte. Ltd.” (neteisėtas masinis komercinis pašt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arptautinės organizacij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uropos Bendrija (Europos Sąjung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iršnacionalinis pobūd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konominės plėtros ir bendradarbiavimo organizacija (OEC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aulio prekybos organizacija (WT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ungtinės tautos – Tarptautinės prekybos teisės komisija (UNCITR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auli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intelektinės nuosavybės organizacija (WIP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rptautiniai prekybos rūmai (IC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uropos Bendrija (Europos Sąjung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999 m.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rekty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000 m.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ės komercijos direkty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lektin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ės nuosavybė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smens duomenų apsaugo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tojų teisių apsaugo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ės privatinės teisės harmoniz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konominės plėtros ir bendradarbiavimo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Centrinis tarptautinis išsivysčiusių valstybių forumas, kuriam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pibendrinama įvairių valstybių prakt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eškoma unifikuotų e-komercijos sureguliavimo modeli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BPO rekomenda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teisiškai neprivalo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įtvirtina stiprius valstybių-narių moralinius/politinius įsipareigojimu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ekretoriato atlikta analizė, surinkti duomenys valstybėms-narėms padeda efektyviau atlikti koordinuotą darb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asaulio prekybos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saulinės prekybos liberaliz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TS – bendrasis susitarimas dėl prekybos paslaugom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RIPS – susitarimas dėl intelektinės nuosavybės aspektų, susijusių su preky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Jungtinių tautų tarptautinės prekybos teisės komis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ės prekybos teisės harmonizavimas ir kodifik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996 m. P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vyzdinis elektroninės komercijos įstaty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001 m. P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vyzdinis elektroninių parašų įstaty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asaulio intelektinės nuosavybės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ių sutarčių intelektinės nuosavybės srityje rengimas ir administr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WIPO Autorių teisių sutar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WIPO Atlikimų ir fonogramų sutar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omenų vardų, kaip galimai naujų intelektinės nuosavybės objektų, statuso tyrimai ir susijusių ginčų sprend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olektyvinis reguliavimas, siekiant suderinti bendrus interesus be valstybės pagalb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sijusi su elektroninės komercijos reguliavimo evoliucija (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lex electronica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valum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reitas, pigus ir efektyvu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žeidimo pašal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limybė reaguoti į nepriimtiną, nors teisėtą elges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Masinis komercinis paštas iki 2001 01 01 Lietuvoje nebuvo draudžiamas teisės aktais, bet buvo reguliuojamas bendrų savireguliacijos priemoni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trūkum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ėra tiesiogiai priverstinai įvykdom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Gali būti taikomos sutartinės sankcij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miamasi savireguliacija kaip paproči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li tapti didesnę įtaką turinčių interneto subjektų (pvz., interneto paslaugų teikėjų) piktnaudžiavi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Visada išlieka valstybės nustatytos taisyklės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–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konkurencijos teisė, vartotojų apsauga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ieta teisės sistemo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ės komercijos teisė – pirmiausia komercinė teis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endrosios komercinės teisės institutai (šalys, sandor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Modifikuoti institutai (elektroninis parašas, elektroninė sutart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oordinatė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ošakis – komercinė; šaka – civilinė; privatinės teisės dal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x mercatoria – viduramžiuose susiformavusi paprotinė komercinė (pirklių) teis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nalogiška elektroninės komercijos teisės pradž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akt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as nuo pat pradžių buvo nereguliuojamas valstybės, o dauguma elgesio taisyklių susiklostė kaip savireguliacijos sukurti paproči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as nėra ribojamas valstybių sienų, todėl sunku taikyti konkrečios valstybės prievartos priem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akt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resursai dažniausiai valdomi privačių subjekt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paslaugų teikėjai, kaip interneto resursų turėtojai, dažnai atsiduria tarp pažeidėjo ir nukentėjus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paslaugų teikėjų teisinės atsakomybės už vartotojų skleidžiamą informaciją įtvirtinimas teisės aktu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formalių elgesio taisyklių skatinimas teisės aktai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teisminių ginčų sprendimo būdų skatinimas (pvz., domenų vardų galimo piratavimo (angl. cybersquatting) ginčų sprendimas arbitražo forma ne teis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tiquet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FC 1855, RFC 108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mus elementarių pageidautino elgesio internete taisyklių rinkin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isyklių 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siųsti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ar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ų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(piktų) žinučių (angl. fla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ira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yti lai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ra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yti vien didžiosiomis raidėmis (TAI LAIKOMA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AUKIM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nternet Corporation of 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gned Names and Numbers (ICAN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kurta 1998 m. perėmė funkcijas iš JA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pelno organizacija, atsakinga už IP adresų ir domenų vardų naudojim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Direktoriai renkami interneto subjektų (5 iš 19 tiesioginiais rinkimais renka interneto vartotoja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990000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28440" y="2361960"/>
            <a:ext cx="7986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niform Domain Name Dispute Resolution Policy (UDR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Sukurtas pagal Pasaulinės intelektinės nuosavybės organizacijos (angl. WIPO) rekomendacija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Įtraukiama į daugelio bendrinių domenų vardų (gTLDs) registravimo sutarti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Ginčus sprendžia nepriklausomų (ICANN paskirtų) organizacijų sudarytos kolegijos (administrative panel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Rezultatas: domeno vardo perdavimas kitam subjektu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Nedraudžiama spręsti ginčo teisme (tai nėra arbitražas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Dauguma ginčų baigiama be nagrinėjimo teism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ail Abuse Prevention System (MAP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 sąrašą įtraukiami IP adresai, iš kurių masiškai siunčiamas nepageidaujamas komercinis paš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grindiniai Interneto paslaugų teikėjai (pvz., Teleglobe, EUnet International, kt.) blokuoja informaciją, kuri siunčiama iš/į šiuos adres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lausima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Reguliavimo objektas ir meto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Objektas - elektroninė komercija (visuomeniniai santykiai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varbiausia ne santykių objektas (iš esmės tapatus bendrajai komercinei teisei), o vykdymo būd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Metod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yraujantis dispozityvus (ypač B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 komercij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Lygios šaly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mperatyvaus metodo elementai (ypač vartotojų apsauga, asmens duomenų apsaug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Administracinis pavaldu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dovaujančios idėjos, esančios reguliavimo pagrin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unkcij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glamentacin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eisės aiškini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pragų pildy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olizijų šalini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ės formos nediskriminav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chnologinio neutralumo (atviru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unkcinio ekvivalentišku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tarčių laisvė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vireguliacijos skat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smens duomenų teisinės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tojų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ugumo užtikr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io pripaž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inimalaus kišimosi (proporcingu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utorių teisių ir gretutinių teisių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iškumo, prognozuojamumo, teisinio tikrumo, teisėtų lūkesči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ės formos nediskrimin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nformacijos teisinis efektyvumas, galiojimas ir įgyvendinimas negali būti paneigtas vien tik tuo pagrindu, kad ši informacija yra elektroninis duomenų praneš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UNCITRAL Model Law on Electronic Comme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vz., el. parašas negali būti laikomas negaliojančiu dėl to, kad yra elektroninis (Elektroninio parašo įst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tr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chnologinis neutralu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ės aktų (ar valstybės politikos) siejimo su konkrečiomis technologijomis veng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ualumo principas - leidžia diferencijuoti skirtingas technologijas pagal jų patikimumą (elektroninis parašas, saugus (angl. advanced) elektroninis parašas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4:08:50Z</dcterms:created>
  <dc:creator>Tomas Lamanauskas</dc:creator>
  <dc:description/>
  <dc:language>en-US</dc:language>
  <cp:lastModifiedBy>Egle</cp:lastModifiedBy>
  <dcterms:modified xsi:type="dcterms:W3CDTF">2008-10-04T08:13:07Z</dcterms:modified>
  <cp:revision>27</cp:revision>
  <dc:subject/>
  <dc:title>PowerPoint Presentation</dc:title>
</cp:coreProperties>
</file>